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C3F-5353-4349-9A8B-85E8940A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EAB-8CD9-4630-AD24-23D50F95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E7D04-BA67-4C2F-BCBC-AEF82C15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12C05-449A-4396-9BA1-CE2AD77E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1FFF5-2BD2-45B8-AF22-5FA447BF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CCD77-FB0F-4F6E-A9A5-61BEF3B0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91E31-C04F-43CC-B93E-9ACBEDFC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5CE73-4633-407D-A15C-7803FE8D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A69FA-5C27-4550-9BD5-C8619AC6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ECBEB-0F1E-4518-B9EA-38D16764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BD600-8F23-424C-A994-A83FFCD9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82B02-EFEC-48E8-B02A-A44FBBDE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C26-8541-4AFE-BCFE-04E35001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AA310-5F6A-4A1E-9DFB-6B806947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E92B0-42EB-4F76-A297-D439D15F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1B8AE-1E6C-4B33-9704-DE72BB46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381F1-403A-4E1D-83D1-E6B78988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82A48-3E01-4BC2-80A8-3F415BE1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7EB7E-3809-47F9-9467-6085F467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04CD1-0363-4E90-9CEF-9883855D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D62CC-F11A-4DD2-B0EA-A026A0A3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7897C-E67A-454F-8033-EDDD2D6C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CB1A1-E7BF-4005-8C18-939FF2DD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BB0-8FB3-4D78-8D6B-30E7AC32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6582A-BB76-4D75-A861-B033155F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592D3-38CC-4315-B9B1-EC73DF79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8B9D8-18A5-4B8A-B0CD-901820C4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8FD5D-A95D-4916-B55F-32666C24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DC526-671B-4F1D-9AA4-32D8239D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5927A-983E-40FF-8166-4F7E6085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543A8-1773-416B-80B5-E5917437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A2006-1CA1-4DDC-9DCE-90E9A380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F283F-C684-41A6-9FB7-F19B4555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2A956-B294-4E92-ADD1-BF13AAD7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B61B-A5E1-466A-8F87-5D3BB3C1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7104D-F748-4849-AB41-2170A2EF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FD18D-5D1F-4129-9D88-2753BD90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41D55-6E39-4235-A73F-B8C19767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FD6EC-4FA7-45D1-8872-A229A092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47DE5-2C62-4600-8B1B-1D0D3762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B6355-7278-4E16-8720-7AD50850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960DC-7EEB-4573-8F30-3234CC23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0719F-80D0-420D-A67E-AD52E40D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36424-3BAD-448B-9ED0-A2477C5B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E91AA-DF35-4B77-978B-068DB284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6111-FC32-4895-B55D-700AEADB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68BED-BD88-42A2-A033-99BE860B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C3D0C-58AF-4DC8-A8DE-7887C52D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EBC2F-6519-4AB4-8427-D085D780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83E87-E29B-4687-B698-62240632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2A006-D2CD-4F4A-BCDB-6E096F91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DDD86-44F7-4BC2-A632-F6BF7766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E51CE-47E4-4E89-ABB6-EBE9A7AC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BE6A1-EEF9-49E0-A7FC-ABD476D7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B0E42-130C-46C6-9664-3B12AA42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1F532-71B3-4840-BFC9-576155BE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E22F-16FE-4180-813E-C07F3DCA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988CC-6D7A-43FB-861A-BA85E6FD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42033-82FB-4DC3-AACF-6A29FD0B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18348D-5501-4473-8C79-4BCC172F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8E3891-9E8C-4859-B8F3-9BCD69F4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FCFCC-20DE-48E4-83BA-705D710B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14EB7D-CDA8-4AE8-A6FE-6DFBD332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30EF2-B508-46D6-A205-9BEC721E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83F8E6-FDB3-4502-AEC5-1F204A4C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D0A928-1771-4443-9983-C20C52B3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C9C140-8C6A-48FE-9E8F-5120F91D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C3C5-AF50-46B9-B792-744B18CE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A8F0D-D429-4D6B-8545-E827D82B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F1A5D-8483-46B7-A860-D4CF3F4E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DFEC0-1619-4E89-A5C8-871B48DE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3A77A-29A6-4615-AD8A-7EF359C7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4026B5-FD1E-4562-BFF9-1985F7F6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0139CE-F395-4956-B09E-D7EAF81C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DAC909-0A87-461C-A379-208EF3CE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09173-5008-4E91-BE37-62917FDC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CCAF5-A835-440E-BFD7-440C1E8A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993279-0ADB-4B63-9ABF-EC4C255C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37B2-A018-49DD-812A-5703F1A3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E20D2D-0614-4D65-AFC0-E420F5FC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CABB7-E03B-4585-A65A-99DCB7D7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DF496E-89DC-4664-95A5-6397044B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62705D-8447-46A0-B12E-66174D6B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7B01E5-B1CF-4290-A3BF-3BC6F658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5FEA0-8910-48FD-B054-E26F6358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755471-FC59-419E-8054-B4743C79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4524F1-E1F1-4380-B9B8-70BB20B8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735865-4FBB-43C3-A11A-FC19B8BC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E1E042-4F34-496F-9488-62F172C3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2CAD-9C19-45E5-B61D-4FA5B776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BFE9C5-65A7-4D69-848B-D1E08BEF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1AF88-60EA-4F23-8264-8AF7B14B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208804-973B-425C-9CAA-92A5C793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674EF3-1702-4018-AA1C-9D200E3F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86A437-414F-429E-AD7D-2F70B85D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D79BC3-B605-409B-B771-9AF328A8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E30B3E-3463-4251-B21A-83D4EA2B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96C735-2702-42AE-94E0-4D2BB55F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08CDB7-F5C2-45F7-86B1-C7F52A0B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752426-843B-4BB6-92BA-6F044985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2A7E-EC4B-4F27-9A7B-82FA0A50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387C15-017C-403C-98EC-2D902AD8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FB062E-4E95-477E-846E-9664BF55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4C779B-A669-449E-A55D-75D4B190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40A65D-5EFD-4EC9-8C45-B4EB0D7C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3C8A1B-77FD-4084-8992-58B4EB82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C041DF-088E-480D-A039-59372C7D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DD6A95-AC0A-4254-B6FD-6B99F46E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F28E85-5797-4FCB-8C65-6AC9ED3A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44FC9B-B063-4BD5-B27B-F9A1FB01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FEED9D-C5EC-40FA-82A9-7CAB73E5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03E-371F-4307-9E38-0F0F8BA4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A654-20E1-4C57-A054-15984FF1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6C1294-9709-4DE2-A6F9-2FFE7661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7F710A-4012-4D65-B74F-A0472B36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C8C6BE-3B07-40BC-8FEA-A9132DF9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EBA5B5-E1CD-4474-80E9-FE1D3C9C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9BF591-5E27-4BE9-B623-079E35FB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0055EB-26E8-47F8-B972-5273C649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095609-9F0E-4EB1-B6F0-9446792A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001113-FCB0-40B8-A40B-746C5003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C75875-EAC5-47E8-AFAF-60562EA3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4CE994-FE30-47D8-BC98-79A5EAE7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BC5F-2067-4797-B056-C234F0C5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F0FE45-D776-4078-A7C5-CBF281AF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C24F31-1D44-4882-B2B5-441900EE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7E3B49-D0EB-4779-BB47-6474B057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78BA22-76D2-43B3-A833-4B010718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063DC0-F682-4B28-9D0C-E6FD7650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738751-6F63-46CB-A5FF-B4B87764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560F7B-7CB3-4298-9E9E-016BDEED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174704-D850-48CC-B458-75D5EBF4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B6DC01-4197-4C39-9A14-307398B1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4C8F07-7EEB-472F-99DD-EBA5F159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CF1D-2CCF-4677-B9CF-32D9FD84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673358-F281-423C-B6D6-9406F58D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D011F9-6142-476A-B84F-C00DB088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4B6BC3-A7E6-4889-A384-080A4528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76C01E-3AEB-4F61-B252-A0958E2B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A468BC-09A3-446A-B7F0-CEF8150F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2E0EA6-D0F2-43A8-B306-E658983C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9B9A6B-A87B-4E16-939C-105D0A76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9C0659-B30A-4AD9-881D-05D77DF6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C52400-B48A-44F7-81FB-BEA05121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2F4683-2023-4B98-87BB-360033F0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7C53-53A7-4E08-BBFE-6EA33084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5FE47D-DA7D-4174-B611-210A565B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D7C6EF-58AA-4C5D-B306-0A0AC8CA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56BDEF-DE76-4502-910E-88689E5E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1D1DFC-7B0A-4E2A-BBBD-E05F63A1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5705CF-B282-4859-8EF5-347BA808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5E84AC-8172-48C6-97FF-A9BC980A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EA63BA-E851-48D0-B39F-E59E862B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32CA98-9351-4415-BCB1-64C272F0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D0F25B-2387-44F1-A8D8-9D7607CD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F74C40-5914-4910-928E-60505497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B7D0-151B-4B85-AD5B-F8DCB719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5F9987-0EED-449B-A6AE-35FE122B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06BF8F-6A6F-41E0-A8E8-0C90FC1E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E1A190-8751-4C44-A452-970DD227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8013DB-B68D-4819-BA50-8BA35196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E35F29-7412-4F94-99F6-F1E8B8E0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479E5A-FBA4-4E43-B381-2523DB37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B18118-0087-4660-922A-D7EF0167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3B3597-15AE-4F2F-AFBF-6B123515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D85485-D488-452C-BEB9-81A035B1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CF2CA5-04A3-497A-BA0F-FD248E57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E3CB0-E8A3-4E3A-A202-CF6E432F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038609-C9CC-4C08-8353-D4BDA8BB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32E5D9-6D5F-4B28-9422-E6868A8E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EA5607-6F68-47F3-BB24-DCAD54DD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615A5-0146-4B89-AC68-C9F130BC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1308E-9F84-4DA9-B9B2-5152B859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899D8-1460-4B4D-B41C-2405AE7B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80579-0478-4DA7-8F8F-3D25DC03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620-53F7-4A72-9363-81BEBD8C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FAD7E-A43B-4F5D-B654-891CB180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D993C-32FB-4E96-A869-4D4D6C5D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00980-6896-49CB-8735-7F11ADD4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98019-5F86-43F3-8A82-BA7ED942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C3E6A-98BC-4119-A2E2-0E99ED9C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1DD11-8D5C-45EC-A706-FD70ACAE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F2FAF-4A20-42A6-B9D3-2E904BDA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24739-B1E2-4E9F-AF3A-07E514BB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EDB0E-6612-40BA-A795-25D7A09B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47131-D992-4408-8A3A-5C48359A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771-172C-42B5-ACA6-60F06C97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38EBF-4480-4F27-8503-D918003F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1C103-6DBC-4E50-BF58-ED326A56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83245-AF37-4D40-8216-D698593B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EF238-5F8D-48AB-B072-4F1D14AF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4B257-ED28-4D83-8B98-5014FE82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F81C8-BB5F-49DA-9FD6-347C0AD7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9464B-17AC-4D00-8313-65BE10E9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3E367-87F2-4261-8218-A23F6902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AA1D6-7180-4A63-9845-E3146FD5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36893-DE55-41A3-811D-4B7BA492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313-66EE-406C-BFCD-6ED56441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71A5B-1A75-46A8-AB80-1D9A8B32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AD4DD-DBEE-45B4-A48A-D64807CE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7BF38-EBA5-419F-BA21-F3ED08F4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2983B-1B95-4C50-B89F-7D81CF61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30011-4817-4EF9-A0E3-FD7589A7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77649-2391-4D17-B3EB-DD52D630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7C549-CEC4-4EE0-ABA8-88DC9AED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A7901-BD60-4622-BC16-9B85D8D5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7D0F8-4C60-4D18-A387-5B77EDEA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7E9BC-3B65-411C-8D77-335E53B7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BCD-B5F8-4D77-888C-20F0F2CB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4092C-3CF1-4A05-B08C-C43FA92A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7765B-1855-49F4-8B73-04E87E39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11CFF-C816-47C3-B99A-DFF3BB56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9BC80-C3C1-4194-9EA0-A99F9AB8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F96CF-13CB-4642-BC45-EEAE1105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253D2-B909-422F-95F6-B7838C9B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A6B4B-99D5-4D08-B3C2-70D1AAF3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B61A6-F6E9-4F9E-A28F-EFAE8BBB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3F777-85C9-4255-AF5E-61B00F55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A3BB3-568B-4B77-ADE3-915B0C8A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826-D0A4-4A26-80FB-60205759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9E4B3-7DD4-4AC9-BE4A-4056410B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D6F36-81DA-4499-8B86-487ABC07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4FEB6-5956-4FB8-84B6-AB228F1F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369F6-77AD-42E5-A82A-099B6C86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9D032-0FE7-487D-A0AC-E03D131D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8A0FC-C9D8-40F9-A47F-89E27CE8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D5BC6-3DBF-4CBC-91E0-C9FFDCF0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2A1D3-337F-41E4-BCA6-D2DE31FB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B76D9-6E52-499A-B6D1-2AB88A19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06080-3BB7-4105-80EE-FC03233C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D1F-77E1-4213-A64F-E75F6A2B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D3F93-9B2C-418B-A27C-3205ED6E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E5DD2-E6C0-461F-B900-87996CBC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369A9-1DFA-44EC-85A5-09CFB6D1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EC6F2-DE69-428D-ACA0-5C9904D9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F46FF-D26D-4538-AA72-DF29622D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7C9B7-9F27-44D4-95DF-65AE3275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84AD1-10C2-4E2B-9CBC-6288CE07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0204A-EDF1-453D-AF42-4F74FEF1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61C79-2528-4F55-AEF0-2AEBCAA4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953FC-94F9-46C2-854B-2BEC7C85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A1D-C002-4A0B-894B-829F92D1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D81D1-BA8E-417C-A6DD-892764B7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5A537-DE49-4FFF-AAC6-0E66344F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EAA21-AF96-44E3-97EF-BA344977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4E2B3-320A-4609-99F3-20DFA363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B8268-5A2A-4121-AEED-E891398F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2D34D-3CFC-4A87-B39D-907E3B2C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E245D-7C10-4A70-8B2E-34C4159C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951E6-C374-4E27-9C8F-70871BE9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9A718-9E5C-4739-AAF0-352DB34A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F7C94-C16A-403C-BE28-10D5BA2D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3378-316B-44BC-87C0-77CD810CA0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A0D7-78A7-43F5-9664-C3DA696CBF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6049-314B-4207-86A4-80B4F88B60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6983-14A6-4EDB-A77B-6729F28653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7901-12BA-49C9-A2D5-8B6B53A309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A98E-504E-4AC6-8970-65266C2A4A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E076-1A8D-4328-AF60-151E812E2A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ABA7-60CD-4AA8-9131-E4AB648028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20B0-7695-4D66-A0C3-D8D0A2A6BD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7F91-E9BF-4CB3-B56B-D3A22B4154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62E3-653B-4181-BADA-AB29A16296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C4F4-1A9B-4920-9C88-3110343268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C671-BFC9-4DEB-980A-1C22892F7E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2A23-4F59-4C31-8F48-A4C2D382A7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4F2B-B542-441B-B033-DD0713C22D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637A-F79B-408A-A73D-E9878D1A62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7DBD-800B-41B6-814B-E1892A4B0D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E6A2-2F05-415C-9435-704E7101E6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8C3F-11CA-455C-9C1F-3D3D487B5F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7513-0FDE-4BA1-AB87-72AFE93018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2CA1-084A-4D43-BEAD-04654659D4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28D2-5B0D-4A96-883C-217E947397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61D6-30BA-48B0-9718-0AB3A5AC09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A3CE-65FE-4A06-AC1D-11682BB2D9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A96F-E296-43B6-80D2-2BF03134FD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BD50-93AE-49C3-87E5-DAF951F9AC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F776-CB76-45CF-AA42-4B1B4BBCB9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053D-46DE-4644-8EDF-E22F66C5C8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F039-475F-4A17-8BCD-21D2C6410F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3BB3-A6C0-4A68-BAC1-56470BDD10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9481-1BF9-4959-B652-6E6DB6C93B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282C-4858-4127-AAAE-7C43503F15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BE89-B732-4246-A42F-875C2C1BF2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76EF-056B-4D78-8116-338E5E26E1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B896-ED38-490F-8AE3-DD53743459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AEC7-3856-4AA0-8976-54AAA2DAE8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F89E-A383-47D0-BD14-D3AED102B6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5515-1128-4AA8-88A0-1F1C6653F1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1E4D-E6FD-42ED-8B01-B57368105D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8A4D-DE68-4DF2-AF06-1349B11F34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14440" y="2943360"/>
            <a:ext cx="451512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69633" descr=""/>
          <p:cNvPicPr/>
          <p:nvPr/>
        </p:nvPicPr>
        <p:blipFill>
          <a:blip r:embed="rId1"/>
          <a:stretch/>
        </p:blipFill>
        <p:spPr>
          <a:xfrm>
            <a:off x="318960" y="703440"/>
            <a:ext cx="8506080" cy="553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187280" y="2909880"/>
            <a:ext cx="5256360" cy="879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755640" y="4005360"/>
            <a:ext cx="5256360" cy="879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900000" y="5084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826920" y="5748480"/>
            <a:ext cx="496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4920" y="819000"/>
            <a:ext cx="8534160" cy="52200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059280" y="304020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500720" y="328464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940360" y="3284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451640" y="328464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340000" y="5516640"/>
            <a:ext cx="86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66720" y="1814400"/>
            <a:ext cx="7810560" cy="32292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4067280" y="253512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3635280" y="45086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5435640" y="4508640"/>
            <a:ext cx="72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347760" y="708120"/>
            <a:ext cx="8448480" cy="5600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439272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4392720" cy="935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826920" y="4724280"/>
            <a:ext cx="4392720" cy="9352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684360" y="5848200"/>
            <a:ext cx="784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7352" descr=""/>
          <p:cNvPicPr/>
          <p:nvPr/>
        </p:nvPicPr>
        <p:blipFill>
          <a:blip r:embed="rId1"/>
          <a:stretch/>
        </p:blipFill>
        <p:spPr>
          <a:xfrm>
            <a:off x="324000" y="1828800"/>
            <a:ext cx="8496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6324" descr=""/>
          <p:cNvPicPr/>
          <p:nvPr/>
        </p:nvPicPr>
        <p:blipFill>
          <a:blip r:embed="rId1"/>
          <a:stretch/>
        </p:blipFill>
        <p:spPr>
          <a:xfrm>
            <a:off x="590400" y="1071720"/>
            <a:ext cx="7963200" cy="4714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684360" y="1252440"/>
            <a:ext cx="5616360" cy="8082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684360" y="2421000"/>
            <a:ext cx="5616360" cy="80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755640" y="3573360"/>
            <a:ext cx="5616720" cy="935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468360" y="4638600"/>
            <a:ext cx="813600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5300" descr=""/>
          <p:cNvPicPr/>
          <p:nvPr/>
        </p:nvPicPr>
        <p:blipFill>
          <a:blip r:embed="rId1"/>
          <a:stretch/>
        </p:blipFill>
        <p:spPr>
          <a:xfrm>
            <a:off x="314280" y="485640"/>
            <a:ext cx="8515440" cy="58960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5905440" cy="9363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1042920" y="3716280"/>
            <a:ext cx="5905440" cy="936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900000" y="4869000"/>
            <a:ext cx="5905440" cy="9363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971640" y="5964120"/>
            <a:ext cx="777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314280" y="2124000"/>
            <a:ext cx="85154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2231" descr=""/>
          <p:cNvPicPr/>
          <p:nvPr/>
        </p:nvPicPr>
        <p:blipFill>
          <a:blip r:embed="rId1"/>
          <a:stretch/>
        </p:blipFill>
        <p:spPr>
          <a:xfrm>
            <a:off x="681120" y="685800"/>
            <a:ext cx="7781760" cy="5838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611280" y="820800"/>
            <a:ext cx="684036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539640" y="1413000"/>
            <a:ext cx="684072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539640" y="2133720"/>
            <a:ext cx="6840720" cy="8636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468360" y="3284640"/>
            <a:ext cx="6840360" cy="8636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395280" y="4365720"/>
            <a:ext cx="6840720" cy="863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7"/>
          <a:stretch/>
        </p:blipFill>
        <p:spPr>
          <a:xfrm>
            <a:off x="395280" y="5373720"/>
            <a:ext cx="8280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09:3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